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640-F9C1-46D8-A2CF-2398C0F0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884-6F71-460C-A67A-D5DA8C91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BCE3-C4D2-45F9-8654-5E9DE62C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D3E-AB76-4429-8B0A-A185FA56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2DAB-9E61-46DF-B0F9-C99BAE30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AF76-01A9-4E0E-B0D4-532C9304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CA62-24D4-4916-A9CB-CB77E0CC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8DED-A92A-441E-A233-16C44972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0D90-0ADF-4B16-B78D-FBB6B930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2E2C-8965-4AD3-B546-B5802A97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5262-59B0-4D54-9459-0D94E232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B53B-5485-42D7-9539-0933C6BB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A757-A261-40F9-B0F0-2A669D0C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6F4A-81D2-4BC7-BCF2-8D71676B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AB69-196F-45FE-B10B-A4132FC9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3B89-C906-4F21-8325-FF7D7571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2DEB-F6A4-4DA6-B81D-FEBECC75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BE650-8879-4FAC-9488-20C46277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1AC45-CD74-4A03-BCA2-0EC128AA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4493D-64EC-4EA0-BA19-D341D2D1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E96D0-059E-4125-8253-BC5687E1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BDC28-EE0D-4DC8-B1E4-DB915707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C271-BEBA-4924-A4D9-681206E4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D3742-54BF-4235-975F-7454931D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DC85D-92D2-4741-82D4-9851CB55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38D45-6A06-4F3B-A22A-E2E5601C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F91C7-4359-4401-9556-9692DA5A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51615-C30A-4542-9191-2CD13DA8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B2A9-36F4-49D6-BAEB-6DEF8472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91FC5-5491-4252-859F-47274CA9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283A2-2A9A-4779-8507-F70504CF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F5844-C936-4E9C-B5DF-ACB1980E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816D9-CADE-4445-81F7-4D7ABC86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9C9-3764-4456-9870-54D9B00B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C24FF-579C-4FEF-A9E3-1CD8976F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AE822-C078-4C47-9E3D-839A813C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1C95E-FD35-458B-B4B6-68C0FA8C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F9098-892B-4100-BBFC-9469B28D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6B371-D5DB-406F-A70C-A345193A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3FF9E-E2BA-45AE-8541-40613B61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B1191-5E58-4D4A-9886-0BD4F524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24F4C-D640-4F89-A2F6-5A70B3F6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705C1-1B57-4934-8228-79C8BEBF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38AC1-D5D6-4ECD-8950-0AB5192C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880-C74D-4650-97F6-A46D59D0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7781E-E916-4848-83B4-955AFEFA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E640D-CD10-4A21-A7EA-6DF34296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FE014-F2C2-40B1-967A-8DF6FCCA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10614-9141-4DAC-93DC-72CE1296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1DE5A-ECAF-402A-BDF2-BBCA25F9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E939E-299C-4E9E-BF35-60B12F3C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6118B-A593-40CE-A3A1-B1A5319F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59BFD-DBE2-4962-B8EC-83898E6C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E0672-7F9E-4D20-9DB7-53ED01B4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1E308-D904-4507-9473-E1197446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F22-08AB-4D9C-A5D6-7FD9BB47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55F06-5FC1-4678-B937-24EE8E2B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76A7F-598E-4B69-A006-C2C057C2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BFF7D-00BA-41D7-BABB-332573F3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3BAA0-673F-4ABA-BB07-6F65B178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CE9A5-BE52-43F9-9C81-F5F01E38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DECA3-B725-4111-9B24-346FCA96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9D5B3-9964-49B1-BDE9-42B43B5C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5278E-233D-424B-BAFE-29749E6D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8CDBC-2E83-4C4E-A778-A1AE86D4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61019-7509-4820-83EA-767BF20E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9C6-2253-4369-840F-247F1DA2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8534A-92AF-4782-B277-4A4C9FD4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916E8-3976-48D5-B861-BA73C087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AF69D-5B6C-4235-AEE1-93C04C49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3C2E3-58D8-4A82-958B-374089FA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5A0BA-03E8-4737-B6CA-0D7450FB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55866-AA3D-436C-82ED-F33012AE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08A5D-45EE-4D19-BC5A-FE7120CF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547FE-94FF-4647-B700-33D2292D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3F67F-4689-43F9-BB6C-57A96018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1FE5D-4FD9-447E-84C7-4D449341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BFA-8005-4A5A-9E96-E5E7802C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86136-354F-4405-9582-F448C65D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A0974-889B-483F-A6EC-9E20E328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18738-16D1-449B-AB06-3EC7049E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C02F3-0571-406E-8CCE-9DA2D182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5F342-4C7E-4CE7-B150-FE3A0783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D721D-02A0-465B-BDE6-067E6A61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3795C-0F0E-459B-9EAA-41266D00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D629D-C6C9-4611-81E4-051BED75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97027-F71A-48FD-8F29-057BA7EC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8AE78-4F41-426C-9CE7-AD284E8E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C18-520C-429B-A908-EDA48C35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B881B-5E9C-406E-BCF8-011E555E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BE0EA-E0C7-4F6A-9C01-784BFE0E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23BFE-FFA5-45C0-B982-DC55D6FF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55301-26B6-4E47-AA78-FB6D3553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D2705-16A2-4835-9082-EAB89C4E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3ED00-BF11-4E84-BF5F-B70234D2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9DF78-73D2-4E18-81B2-43B05A92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8F804-D6ED-483E-BEE5-9FF780C726F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26B54-7410-4D2E-BA13-35557BEB68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3358F-B613-4A4F-978D-E349FD78E096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461BC-548D-4B31-AF1B-A5F9644C69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3A069-2414-4669-B812-37167AE3668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60DD7-F9AC-4754-9378-743BB2280B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C26B3-387D-400F-B88E-85484951C48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6E18F-8330-4BBD-B30A-DC2B10B635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E42CB-98BD-431D-B027-8F55ABC1FE0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6A621-BDEC-481D-8C8C-E3DA2A6099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B3B1E-8230-436E-A5C0-F1C66A356DF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F775D-B744-46BD-A9B4-23EAD53125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60E92-3AAD-41A6-AEB1-FAFF286C46A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C5AA7-896A-4662-9486-C5ABCC4018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41668-3696-49A1-B75A-59C4477C7B0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40A978-1ED0-4348-9BEA-360EA8B601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78880" cy="2060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Manifest Destiny and Its Legac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1841-18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neca Falls Conven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ing the Declaration of Sentiments, with a partner you will be translating the document into terms that a 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rader would be able to understan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 careful with your word choi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ranslate as much as you can before the end of clas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Manifest Destiny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ames K. Polk: “Young Hickory”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anifest Destin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idea that God “manifestly” destined the United States to expand across North Americ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ig issue in 1844 electi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y (“great compromiser”) compromised away the presidenc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ated that although he favored annexing TX, he wanted to postpone annexati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lk wins elec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6585120" y="4924440"/>
            <a:ext cx="144756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olk “The Purposeful”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lk had four major goal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lower tarif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0160" indent="-4381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alker Tariff of 1846: reduced tariff of 1842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tore the independent treasu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quisition of California w/o viol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quisition of Oregon w/o violence (war w/ Mexico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0160" indent="-4381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mpromise of acquiring Oregon at 49*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Misunderstandings With Mexico 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pulation of California consisted of Spanish-Mexicans &amp; Native America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lk wanted to buy California from Mex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lations poor due to annexation of TX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John Slide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umors of Britain preparing to buy California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nt to Mexico City in 1845 by Polk to buy California for $25 million-offer rejected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" descr="File:John Slidell LA 1859.jpg"/>
          <p:cNvPicPr/>
          <p:nvPr/>
        </p:nvPicPr>
        <p:blipFill>
          <a:blip r:embed="rId1"/>
          <a:stretch/>
        </p:blipFill>
        <p:spPr>
          <a:xfrm>
            <a:off x="7122960" y="4475160"/>
            <a:ext cx="202104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Mexican American War 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lk ordered 4,000 men under 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eneral Zachary Taylo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to the Rio Grande.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ay 9, 1846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Polk asked Congress to 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clare war on Mexic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of the basis of 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unpaid claim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and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 Slidell's rejectio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xican troops attacked American troops that night &amp; war was declare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112920" y="4629240"/>
            <a:ext cx="25988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Mexican-American War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lk wanted California, not war. 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eneral Zachary Taylo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won many victories including a great victory over a large Mexican force at Buena Vist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uture presiden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eneral Winfield Scott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ucceeded in battling his way to Mexico City; distinguished gener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608120" y="4506840"/>
            <a:ext cx="1916280" cy="23511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619600" y="4506840"/>
            <a:ext cx="18734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Fighting Mexico for Peace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icholas P. Tris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chief clerk of the State Department; signed 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reaty of Guadalupe Hidalg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on 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ebruary 2, 1848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reaty of Guadalupe Hidalgo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ave Texas to America (Mexico recognizes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yielded area stretching westward to Oregon and the ocean, including California, for$15 million. 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pposed by those who wanted all of Mexico and those who wanted none of i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174840" y="5119560"/>
            <a:ext cx="26132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rofit &amp; Loss in Mexico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vided field experience for the officers including Robert E. Lee &amp; Ulysses S. Grant (Civil War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ought about the conflict of slavery between the states.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ilmot Proviso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tated that territory from Mexico should remain slave-free. 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ever passed the Senat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outhern members did not want to be robbed of possible slave stat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y ¼ of white southerners owned sla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slaves upheld family lif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rican roots &amp; cultu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at Turner’s Rebellio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slave uprising; slaughtered 60 Virginian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bolitionists unpopular for some time in the Nor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y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3679920" y="4317840"/>
            <a:ext cx="25398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lliam Henry Harrison contracted pneumonia &amp; died 4 weeks into his te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ohn Tyler becomes presid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mocrat in Whig clothing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2"/>
          <a:stretch/>
        </p:blipFill>
        <p:spPr>
          <a:xfrm>
            <a:off x="5842080" y="3073320"/>
            <a:ext cx="284472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yler vetoed bill to establish new Bank of the United Sta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jected by former Whig par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gned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Tariff of 184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protective Whig tarif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tred of Britai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itter memories of past w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itish critics wrote about American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War with England”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ll rebellion in Canada (supported by too few Canadians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erican ship,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The Carolin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was sunk by the British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itish offered asylum to 130 Virginian slaves who rebelled &amp; captured American ship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Creo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ine boundary dispu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itish wanted to build road that ran through disputed territo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niel Webster (secretary of state) &amp; Lord Ashburton negoti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S got 7,000 sq. miles of disputed lan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itain got less land but als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ot road rout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5751360" y="4081320"/>
            <a:ext cx="33926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xico refused to recognize Texas’ independenc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reatened war if US tried to acquire Texa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itain interested in independent T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xas made treaties w/ France, Holland &amp; Belgium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"/>
          <p:cNvPicPr/>
          <p:nvPr/>
        </p:nvPicPr>
        <p:blipFill>
          <a:blip r:embed="rId2"/>
          <a:stretch/>
        </p:blipFill>
        <p:spPr>
          <a:xfrm>
            <a:off x="3227400" y="3889440"/>
            <a:ext cx="29131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xas became leading issue in presidential campaign of 184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James K. Polk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Democrat) vs. Henry Clay (Whig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mocrats pro-expansion &amp; for annexing Texa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ohn Tyler arranged for annexation of Tex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845- Texas becomes 28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tate of the 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 nations claimed Oregon at one time: Spain, Russia, Britain &amp; United Sta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itish claims north of Columbia Riv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regon Fever”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regon trail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,000 Americans settled south of Columbia Riv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regon became issue in 1844 election, overshadowed by Tex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2951280" y="5113440"/>
            <a:ext cx="30765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20:24:48Z</dcterms:created>
  <dc:creator>Emily Johnson</dc:creator>
  <dc:description/>
  <dc:language>en-US</dc:language>
  <cp:lastModifiedBy>emily.johnson</cp:lastModifiedBy>
  <dcterms:modified xsi:type="dcterms:W3CDTF">2012-11-26T21:36:51Z</dcterms:modified>
  <cp:revision>5</cp:revision>
  <dc:subject/>
  <dc:title>Chapter 17</dc:title>
</cp:coreProperties>
</file>